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7EE-5EF2-401E-A505-052963C5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778-F8B7-415D-B6AA-7155E14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425-969C-40B6-81E3-4F80AFBD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659-670F-4557-A288-D9E52D7C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8D56-69B8-429B-AEEE-3709D8EA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4ABC-2D74-4122-8135-4319E27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7C72-7985-4776-A80F-33E9F22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DAFA-3D86-4490-B67A-9EC30FCE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2B56-3FBE-49B1-A97A-141150A3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7029-EFE2-4592-A0B6-3989CEC6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2545-6644-49EF-8C40-C3CFD3B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BAC-A313-4292-8699-08BA33CA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5E7F-E3C0-45C1-BAD7-8BB4E9A3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8294-2C60-46C2-8F09-DBB11B0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7171-8F7E-4964-A97E-0266E4AE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21C9-884A-45BC-B255-A092374D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BA4E-1F42-472A-8BD3-53403425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2EE-F12E-4ED0-A16E-9A48B0B5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C2B-7342-46A9-A60D-228D8E09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A99-56BB-4D2B-9843-7DA02508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C01-BCF0-4A99-AA30-69B8C9DE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CCE-555C-4014-A1DD-3AA1293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753-64E0-4952-8CC3-E295E0B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357-D9D5-49DA-B0C5-8A3D2100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aur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6FDE-0750-415D-B6F6-7A2DFE3213C9}" type="slidenum">
              <a:rPr b="0" lang="en-US" sz="1200" spc="-1" strike="noStrike">
                <a:solidFill>
                  <a:srgbClr val="89898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191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1919"/>
                </a:solidFill>
                <a:latin typeface="Centaur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8315-A6CF-4A14-904F-18C629762479}" type="slidenum">
              <a:rPr b="0" lang="en-US" sz="1200" spc="-1" strike="noStrike">
                <a:solidFill>
                  <a:srgbClr val="4f191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http://bobwama.files.wordpress.com/2008/08/august-13-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3"/>
          <a:stretch/>
        </p:blipFill>
        <p:spPr>
          <a:xfrm>
            <a:off x="646200" y="463680"/>
            <a:ext cx="804708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55e39"/>
              </a:solidFill>
              <a:latin typeface="Corbe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rockdown.net/Customize/Desktop/Wallpapers/Walls/cigarette_by_ei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1" descr=""/>
          <p:cNvPicPr/>
          <p:nvPr/>
        </p:nvPicPr>
        <p:blipFill>
          <a:blip r:embed="rId3"/>
          <a:stretch/>
        </p:blipFill>
        <p:spPr>
          <a:xfrm>
            <a:off x="450720" y="55440"/>
            <a:ext cx="8242560" cy="138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643120" y="1517400"/>
            <a:ext cx="64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cc"/>
                </a:solidFill>
                <a:latin typeface="Corbel"/>
              </a:rPr>
              <a:t>При курении поглощаются витамины В и С и фолиевая кислота, недостаток которой приводит к дефектам ЦНС;</a:t>
            </a:r>
            <a:endParaRPr b="1" lang="en-US" sz="1900" spc="-1" strike="noStrike">
              <a:solidFill>
                <a:srgbClr val="4a452a"/>
              </a:solidFill>
              <a:latin typeface="Corbel"/>
            </a:endParaRPr>
          </a:p>
          <a:p>
            <a:pPr marL="318960" indent="-318960"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cc"/>
                </a:solidFill>
                <a:latin typeface="Corbel"/>
              </a:rPr>
              <a:t>Снижение веса плода (в среднемна 200 грамм). Существует прямая зависимость от количества выкуренных сигарет и массой, которую потеряет плод;</a:t>
            </a:r>
            <a:endParaRPr b="1" lang="en-US" sz="1900" spc="-1" strike="noStrike">
              <a:solidFill>
                <a:srgbClr val="4a452a"/>
              </a:solidFill>
              <a:latin typeface="Corbel"/>
            </a:endParaRPr>
          </a:p>
          <a:p>
            <a:pPr marL="318960" indent="-318960"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cc"/>
                </a:solidFill>
                <a:latin typeface="Corbel"/>
              </a:rPr>
              <a:t>Кислородное голодание плода, в результате начинается задержка его внутриутробного развития, что приводит к слабому здоровью будущего малыша. У таких детей чаще всего встречаются заболевания дыхательной системы.</a:t>
            </a:r>
            <a:endParaRPr b="1" lang="en-US" sz="1900" spc="-1" strike="noStrike">
              <a:solidFill>
                <a:srgbClr val="4a452a"/>
              </a:solidFill>
              <a:latin typeface="Corbel"/>
            </a:endParaRPr>
          </a:p>
          <a:p>
            <a:pPr marL="318960" indent="-318960"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cc"/>
                </a:solidFill>
                <a:latin typeface="Corbel"/>
              </a:rPr>
              <a:t>Шансы преждевременных родов увеличиваются в 2 раза;</a:t>
            </a:r>
            <a:endParaRPr b="1" lang="en-US" sz="1900" spc="-1" strike="noStrike">
              <a:solidFill>
                <a:srgbClr val="4a452a"/>
              </a:solidFill>
              <a:latin typeface="Corbel"/>
            </a:endParaRPr>
          </a:p>
          <a:p>
            <a:pPr marL="318960" indent="-318960">
              <a:spcBef>
                <a:spcPts val="476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cc"/>
                </a:solidFill>
                <a:latin typeface="Corbel"/>
              </a:rPr>
              <a:t>Появление раковых опухолей у плода;</a:t>
            </a:r>
            <a:endParaRPr b="1" lang="en-US" sz="1900" spc="-1" strike="noStrike">
              <a:solidFill>
                <a:srgbClr val="4a452a"/>
              </a:solidFill>
              <a:latin typeface="Corbel"/>
            </a:endParaRPr>
          </a:p>
          <a:p>
            <a:pPr marL="318960" indent="-318960">
              <a:spcBef>
                <a:spcPts val="476"/>
              </a:spcBef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cc"/>
                </a:solidFill>
                <a:latin typeface="Corbel"/>
              </a:rPr>
              <a:t>Физические и умственные отклонения;</a:t>
            </a:r>
            <a:endParaRPr b="1" lang="en-US" sz="1900" spc="-1" strike="noStrike">
              <a:solidFill>
                <a:srgbClr val="4a452a"/>
              </a:solidFill>
              <a:latin typeface="Corbel"/>
            </a:endParaRPr>
          </a:p>
          <a:p>
            <a:pPr marL="318960" indent="-318960">
              <a:spcBef>
                <a:spcPts val="476"/>
              </a:spcBef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a452a"/>
              </a:solidFill>
              <a:latin typeface="Corbe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rockdown.net/Customize/Desktop/Wallpapers/Walls/cigarette_by_ei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57760" y="713880"/>
            <a:ext cx="4829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rbel"/>
              </a:rPr>
              <a:t>Курящая женщина может стать аллергиком и передать эту склонность будущему ребёнку (чаще всего встречается пищевая аллергия, на пыльцу, бронхиальная астма);</a:t>
            </a:r>
            <a:endParaRPr b="1" lang="en-US" sz="2000" spc="-1" strike="noStrike">
              <a:solidFill>
                <a:srgbClr val="4a452a"/>
              </a:solidFill>
              <a:latin typeface="Corbel"/>
            </a:endParaRPr>
          </a:p>
          <a:p>
            <a:pPr marL="335880" indent="-335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rbel"/>
              </a:rPr>
              <a:t>Снижение функций лёгких ребёнка (недоразвитые лёгкие);</a:t>
            </a:r>
            <a:endParaRPr b="1" lang="en-US" sz="2000" spc="-1" strike="noStrike">
              <a:solidFill>
                <a:srgbClr val="4a452a"/>
              </a:solidFill>
              <a:latin typeface="Corbel"/>
            </a:endParaRPr>
          </a:p>
          <a:p>
            <a:pPr marL="335880" indent="-335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rbel"/>
              </a:rPr>
              <a:t>Снижение иммунитета;</a:t>
            </a:r>
            <a:endParaRPr b="1" lang="en-US" sz="2000" spc="-1" strike="noStrike">
              <a:solidFill>
                <a:srgbClr val="4a452a"/>
              </a:solidFill>
              <a:latin typeface="Corbel"/>
            </a:endParaRPr>
          </a:p>
          <a:p>
            <a:pPr marL="335880" indent="-335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rbel"/>
              </a:rPr>
              <a:t>Снижение роста и веса плода;</a:t>
            </a:r>
            <a:endParaRPr b="1" lang="en-US" sz="2000" spc="-1" strike="noStrike">
              <a:solidFill>
                <a:srgbClr val="4a452a"/>
              </a:solidFill>
              <a:latin typeface="Corbel"/>
            </a:endParaRPr>
          </a:p>
          <a:p>
            <a:pPr marL="335880" indent="-3358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rbel"/>
              </a:rPr>
              <a:t>Врождённые дефекты головного мозга, сердца;</a:t>
            </a:r>
            <a:endParaRPr b="1" lang="en-US" sz="2000" spc="-1" strike="noStrike">
              <a:solidFill>
                <a:srgbClr val="4a452a"/>
              </a:solidFill>
              <a:latin typeface="Corbel"/>
            </a:endParaRPr>
          </a:p>
          <a:p>
            <a:pPr marL="335880" indent="-335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rbel"/>
              </a:rPr>
              <a:t>Риск синдрома внезапной смертности новорождённого (СВДС). Доказано, что курение увеличивает риск СВДС в 2,5 раза.</a:t>
            </a:r>
            <a:endParaRPr b="1" lang="en-US" sz="2000" spc="-1" strike="noStrike">
              <a:solidFill>
                <a:srgbClr val="4a452a"/>
              </a:solidFill>
              <a:latin typeface="Corbel"/>
            </a:endParaRPr>
          </a:p>
          <a:p>
            <a:pPr marL="335880" indent="-3358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a452a"/>
              </a:solidFill>
              <a:latin typeface="Corbe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457200" y="2500200"/>
            <a:ext cx="2828880" cy="36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rockdown.net/Customize/Desktop/Wallpapers/Walls/cigarette_by_ei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42800" y="714240"/>
            <a:ext cx="5715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Оксид углерода (угарный газ) является весьма токсичным компонентом табачного дыма. Механизм патогенного действия оксида углерода достаточно прост: вступая в связь с гемоглобином, оксид углерода образует соединение карбоксигемоглобин. Он препятствует нормальной доставке кислорода к органам и тканям, в результате чего развивается хроническое кислородное голодание.</a:t>
            </a:r>
            <a:endParaRPr b="1" lang="en-US" sz="24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6000840"/>
            <a:ext cx="85726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rockdown.net/Customize/Desktop/Wallpapers/Walls/cigarette_by_ei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85800" y="1500120"/>
            <a:ext cx="53290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Радоактивные изотопы находятся в организме от нескольких месяцев до многих лет, являясь источником радиации, которая вызывает процессы муто- и канцерогенеза. Если канцерогенные свойства радиации могут проявиться уже при жизни самого курильщика, то мутации обнаруживаются через поколения. Спустя десятилетия.</a:t>
            </a:r>
            <a:endParaRPr b="1" lang="en-US" sz="2400" spc="-1" strike="noStrike">
              <a:solidFill>
                <a:srgbClr val="4a452a"/>
              </a:solidFill>
              <a:latin typeface="Corbel"/>
            </a:endParaRPr>
          </a:p>
          <a:p>
            <a:pPr indent="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Corbel"/>
              </a:rPr>
              <a:t>Торокопагия</a:t>
            </a:r>
            <a:r>
              <a:rPr b="1" lang="ru-RU" sz="2500" spc="-1" strike="noStrike">
                <a:solidFill>
                  <a:srgbClr val="ffc000"/>
                </a:solidFill>
                <a:latin typeface="Corbel"/>
              </a:rPr>
              <a:t> – близнецы сросшиеся передними стенками грудной клетки при неправильном течении онтогенеза.</a:t>
            </a:r>
            <a:endParaRPr b="1" lang="en-US" sz="25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2" name="Picture 4" descr="1[1]"/>
          <p:cNvPicPr/>
          <p:nvPr/>
        </p:nvPicPr>
        <p:blipFill>
          <a:blip r:embed="rId1"/>
          <a:stretch/>
        </p:blipFill>
        <p:spPr>
          <a:xfrm>
            <a:off x="285840" y="2071800"/>
            <a:ext cx="8516880" cy="4330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728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Corbel"/>
              </a:rPr>
              <a:t>Краниопаги</a:t>
            </a:r>
            <a:r>
              <a:rPr b="1" lang="ru-RU" sz="2500" spc="-1" strike="noStrike">
                <a:solidFill>
                  <a:srgbClr val="ffc000"/>
                </a:solidFill>
                <a:latin typeface="Corbel"/>
              </a:rPr>
              <a:t> – близнецы сросшиеся головами в определённых случаях имеют общий головной мозг</a:t>
            </a:r>
            <a:endParaRPr b="1" lang="en-US" sz="25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4" name="Picture 4" descr="2[1]"/>
          <p:cNvPicPr/>
          <p:nvPr/>
        </p:nvPicPr>
        <p:blipFill>
          <a:blip r:embed="rId1"/>
          <a:stretch/>
        </p:blipFill>
        <p:spPr>
          <a:xfrm>
            <a:off x="428760" y="1889280"/>
            <a:ext cx="8369280" cy="4254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zastavki.com/pictures/1280x1024/2008/Photoshop_Cigarette_007335_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4" descr=""/>
          <p:cNvPicPr/>
          <p:nvPr/>
        </p:nvPicPr>
        <p:blipFill>
          <a:blip r:embed="rId3"/>
          <a:stretch/>
        </p:blipFill>
        <p:spPr>
          <a:xfrm>
            <a:off x="993600" y="1420920"/>
            <a:ext cx="7785360" cy="1487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55e39"/>
              </a:solidFill>
              <a:latin typeface="Corbel"/>
            </a:endParaRPr>
          </a:p>
        </p:txBody>
      </p:sp>
    </p:spTree>
  </p:cSld>
  <p:transition spd="med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7:25:38Z</dcterms:created>
  <dc:creator>Maksak</dc:creator>
  <dc:description/>
  <dc:language>en-US</dc:language>
  <cp:lastModifiedBy>Vlad</cp:lastModifiedBy>
  <dcterms:modified xsi:type="dcterms:W3CDTF">2011-05-17T05:32:25Z</dcterms:modified>
  <cp:revision>58</cp:revision>
  <dc:subject/>
  <dc:title>Развитие организма и окружающая среда</dc:title>
</cp:coreProperties>
</file>